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0AE-2898-4236-82FF-5E4AC6AF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F6E3-18AC-4DE8-9031-DA1D200B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3E8-5043-470D-82B9-E5750E45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F491-567B-45A5-B089-C6372D0C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8100-E5ED-4567-8524-6E5ED86F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B6D8-1305-4D29-9CFA-578A8CBF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B29A-CE45-4F7F-A0E5-FEA806B6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B149-B5D3-4AA7-A8B9-3074DD60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F4D8-809E-4E97-A400-97E577ED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272D-F153-471E-9D4F-44567B16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6469-4CE5-4B19-AAA4-2454BAD5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FEF-E7EE-4743-84F9-0631A2C1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ED20-1D79-4F92-8787-09FD10F9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B41E-9EDE-4357-80D1-076A8912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E6E3-D347-462D-B4BB-F9C18A87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97FB-27EE-4C4E-B00F-C60B0339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9EAC-A4A1-47DE-B643-CF790EE3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3143D-CE0A-4ED0-9728-4D98BFD7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0EA57-824F-4005-A926-AB4DEF2E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6C6E2-7D7A-4EDB-BA74-F5B58E34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683A3-C1EA-4C1A-BDCF-A744567D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35ABE-406A-40FB-B8FD-1FE3D158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E261-1E03-4266-ACE8-1FBE6919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6F2E5-B5CB-4FA4-AFB8-53D7BF34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99AA8-3CFD-4E1F-8B08-88815679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AA19D-047A-4B9B-9D20-65D847BE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73A6D-0107-43E8-B889-BBC8AA64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8D220-694D-44A2-9868-609FAB94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AFE23-20FF-4FDA-8B0A-76436030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19CC0-6319-44E4-81F2-DAF1F07E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B6EE7-F518-49D6-8DF5-781D0772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1C6F3-78FA-4021-878D-B733A277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04B5B-FDBF-4D85-A074-777E3C9C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E38-000F-479E-B9E0-7CED603E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87859-450A-4C1A-A5D0-C85B9357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22DCD-81FE-4314-A99E-127AB575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EF647-B31D-4154-93A7-64214CE3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E04B8-7E28-4DD4-81DF-5B7172E9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A2D4E-5F6D-48B0-AA51-210A3D43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92178-AEF7-4981-94C6-CCA3899C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92E1C-9C70-4827-9EC3-F5C601F2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00C6C-BB9F-449C-81EB-47A2F262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4E02E-B263-404C-A4EB-2DB0E1CA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9E8E2-C7DE-42F3-A9DC-3F11AB57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E1A-E083-41DF-BA77-7CC9E450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78808-F89A-4DD4-9867-02EED68D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2AC5B-6AA5-4F5F-83A1-D562481B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2BBB7-D0AD-469C-8492-1037C6B8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8246B-FFC2-4ACA-8655-F8E43481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DEB49-0CA2-41C4-804B-58CA007F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92139-1419-4528-803E-F6CDB6C4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B6290-7277-4F24-832D-F755356F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9091F-9589-4B25-AA9F-99E186BB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6C338-3AE3-4DB1-B944-C74E62C4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D1600-9CDE-45E8-951D-2094964A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1A9D-025E-48AD-92EA-FE6B3EA9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9AD48-BB99-423C-B277-64FFB64A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58929-5783-433F-A638-F88B47E9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612F9-DCA3-474C-9400-54D4B0BF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4F24E-8349-45E3-A804-DC1F7C9B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BD3FD-D153-441F-ABA0-7A0A217F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FC118-FF46-46F9-A386-20F2D14B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3F4C4-76AA-4F83-82D7-0FFA7080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AEF80-9872-4900-9858-13A2D2F5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182D4-C0D6-4D5F-9EB1-041912F7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132CC-BECB-424A-8AE9-541FF720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6BA-BE9F-47A2-B345-ED2AC7AB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F0C6A-D3CC-4C43-8520-CEB59B86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D401F-5941-4A1B-85C4-AB1AEB4D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16731-93D2-4229-AF72-DB787118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F6F74-D1D2-4956-B1E1-766B4122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3F540-77A1-47B5-A299-994C4A90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E2E7B-2CD8-4D70-B8C8-F7E4034E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378AB-5E42-4D6B-8F33-495BE587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C76F3-72EC-4CDC-98C7-3EA19BF2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F29A5-3826-4B43-980C-AE60B96B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19E17-AA1E-41B4-9454-6F33FF53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7CF-6F51-4142-B4DB-86CEB70A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E4313-1FAD-48F7-A33A-51474AF0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3B927-EBA9-404E-9C8D-3CF7C363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50D0E-B417-4F28-8FDD-FE6B3E22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A03CD-1269-488B-A6EE-28CB5281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0C1D8-DFC6-4A13-97B5-62AFDB93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55AC4-2231-45CD-9B17-D4E30ADB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E073E-6588-4E10-81E0-94F6AA11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63594-97AD-4487-80D8-DEB8872E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AF164-8914-4A86-A5A1-CF119D7A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F76E9-CFEE-4308-93FA-738F3CCD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2FC3-C3E4-4AE4-B643-62C4092E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81F8A-661A-4434-82B8-3E50CAC0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90492-95AF-4E9F-8659-161FDF02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0AF2E-A0FA-4B4C-B187-E2E80707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3ED70-E7D8-4A77-97BF-5366A2F5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564D6-F8C2-46D6-8037-9F6A32F6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998E2-838D-4551-896A-37A4F5C5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3196A-F0D5-4758-83DA-33C8DE1C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65F9-0D7F-43DC-A709-202C65DF81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4742-AFD6-4DEE-B5DB-36611F96BB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D9F8-9CF2-4DEF-80F2-C3A335C555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79D5-5046-4A11-BCCB-2434B65360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7F88-1BE1-4663-A9EE-07A35AECEF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5795-ADD8-44A6-8F27-D541DF1A9A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8FC8-3F54-427C-842B-83ABBCED39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93CB-6252-43BA-87A5-412CDD53AA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youtube.com/watch?v=DjcztiNGg_8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youtube.com/watch?v=2mzDwgyk6Q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Formation of Compound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70c0"/>
                </a:solidFill>
                <a:latin typeface="Lucida Sans Unicode"/>
              </a:rPr>
              <a:t>Answers to the notes outlin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70c0"/>
                </a:solidFill>
                <a:latin typeface="Lucida Sans Unicode"/>
              </a:rPr>
              <a:t>will be highlighted in blu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are the chemical properties of wat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ater is a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stable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mpound that doesn’t break down under normal conditions and doesn’t react with many other substance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acts as a medium for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chemical reactions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 occur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 important during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photosynthesi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-360" y="148104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Properties of Hydrog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Lightest and most abundant element in the univers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nmetallic, odorless, tasteless, and colorless g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active element, so rarely found as a free ele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urns into a liquid at -253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Does not conduct electrici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Slightly soluble in wat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1055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Properties of Oxyg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ater is a stable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mpound that doesn’t break down under normal conditions and doesn’t react with many other substanc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t acts as a medium for chemical reactions to occur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t is important during photosynthesi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3657600" y="5486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Combustion of hydrogen and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6858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n you make any conclusions about compounds and the elements that make them up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The physical and chemical properties of the atoms that make up compounds are very different from the compounds they creat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elements to 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reac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atoms of the elements must 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collid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the 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valence electron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colliding atoms that interact to form compoun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member from chapter 3 that the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propertie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of elements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repeat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because the number of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valence electron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repeat in each group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number of valence electrons determines the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chemical properties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f an atom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228600" y="14810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y are noble gases so unreactive and so stabl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ach noble gas (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except for Helium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 has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lang="en-US" sz="2800" spc="-1" strike="noStrike">
                <a:solidFill>
                  <a:srgbClr val="0070c0"/>
                </a:solidFill>
                <a:latin typeface="Lucida Sans Unicode"/>
              </a:rPr>
              <a:t>octet rul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ates that atoms can become </a:t>
            </a:r>
            <a:r>
              <a:rPr b="0" lang="en-US" sz="2800" spc="-1" strike="noStrike">
                <a:solidFill>
                  <a:srgbClr val="0070c0"/>
                </a:solidFill>
                <a:latin typeface="Lucida Sans Unicode"/>
              </a:rPr>
              <a:t>stabl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by having </a:t>
            </a:r>
            <a:r>
              <a:rPr b="0" lang="en-US" sz="2800" spc="-1" strike="noStrike">
                <a:solidFill>
                  <a:srgbClr val="0070c0"/>
                </a:solidFill>
                <a:latin typeface="Lucida Sans Unicode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electrons in their outer energy leve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lements become more stable by achieving a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 noble gas configurati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y do this by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gaining, losing or sharing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lectrons with other element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many valence electrons do sodium and chlorine hav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odium has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nd chlorine has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can both sodium and chlorine achieve a full octe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alence electron of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sodium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s transferred to the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chlorine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atom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1765800" y="51055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        +          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32"/>
          <p:cNvSpPr/>
          <p:nvPr/>
        </p:nvSpPr>
        <p:spPr>
          <a:xfrm>
            <a:off x="3809880" y="5334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4534200" y="51055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Na ]     +     [  Cl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4"/>
          <p:cNvSpPr/>
          <p:nvPr/>
        </p:nvSpPr>
        <p:spPr>
          <a:xfrm>
            <a:off x="65530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7396560" y="5105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8"/>
          <p:cNvSpPr/>
          <p:nvPr/>
        </p:nvSpPr>
        <p:spPr>
          <a:xfrm flipH="1">
            <a:off x="6227640" y="507528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9"/>
          <p:cNvSpPr/>
          <p:nvPr/>
        </p:nvSpPr>
        <p:spPr>
          <a:xfrm flipH="1">
            <a:off x="3360600" y="5210280"/>
            <a:ext cx="76320" cy="759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0"/>
          <p:cNvSpPr/>
          <p:nvPr/>
        </p:nvSpPr>
        <p:spPr>
          <a:xfrm flipH="1">
            <a:off x="6324480" y="530532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1"/>
          <p:cNvSpPr/>
          <p:nvPr/>
        </p:nvSpPr>
        <p:spPr>
          <a:xfrm flipH="1">
            <a:off x="3700440" y="5229360"/>
            <a:ext cx="76320" cy="759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2"/>
          <p:cNvSpPr/>
          <p:nvPr/>
        </p:nvSpPr>
        <p:spPr>
          <a:xfrm flipH="1">
            <a:off x="3624120" y="507348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 flipH="1">
            <a:off x="3467160" y="538632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4"/>
          <p:cNvSpPr/>
          <p:nvPr/>
        </p:nvSpPr>
        <p:spPr>
          <a:xfrm flipH="1">
            <a:off x="3504600" y="5072040"/>
            <a:ext cx="7596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15"/>
          <p:cNvSpPr/>
          <p:nvPr/>
        </p:nvSpPr>
        <p:spPr>
          <a:xfrm flipH="1">
            <a:off x="5992200" y="5275440"/>
            <a:ext cx="75960" cy="759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6"/>
          <p:cNvSpPr/>
          <p:nvPr/>
        </p:nvSpPr>
        <p:spPr>
          <a:xfrm flipH="1">
            <a:off x="5987880" y="517212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7"/>
          <p:cNvSpPr/>
          <p:nvPr/>
        </p:nvSpPr>
        <p:spPr>
          <a:xfrm flipH="1">
            <a:off x="3601440" y="5397480"/>
            <a:ext cx="7596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8"/>
          <p:cNvSpPr/>
          <p:nvPr/>
        </p:nvSpPr>
        <p:spPr>
          <a:xfrm flipH="1">
            <a:off x="6095880" y="539748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9"/>
          <p:cNvSpPr/>
          <p:nvPr/>
        </p:nvSpPr>
        <p:spPr>
          <a:xfrm flipH="1">
            <a:off x="6324480" y="517212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20"/>
          <p:cNvSpPr/>
          <p:nvPr/>
        </p:nvSpPr>
        <p:spPr>
          <a:xfrm flipH="1">
            <a:off x="6099120" y="507528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21"/>
          <p:cNvSpPr/>
          <p:nvPr/>
        </p:nvSpPr>
        <p:spPr>
          <a:xfrm flipH="1">
            <a:off x="3360600" y="5310360"/>
            <a:ext cx="76320" cy="759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22"/>
          <p:cNvSpPr/>
          <p:nvPr/>
        </p:nvSpPr>
        <p:spPr>
          <a:xfrm flipH="1">
            <a:off x="6247800" y="5386320"/>
            <a:ext cx="7596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23"/>
          <p:cNvSpPr/>
          <p:nvPr/>
        </p:nvSpPr>
        <p:spPr>
          <a:xfrm flipH="1">
            <a:off x="2209680" y="5251320"/>
            <a:ext cx="76320" cy="763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"/>
          <p:cNvSpPr/>
          <p:nvPr/>
        </p:nvSpPr>
        <p:spPr>
          <a:xfrm>
            <a:off x="5046840" y="4944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5"/>
          <p:cNvSpPr/>
          <p:nvPr/>
        </p:nvSpPr>
        <p:spPr>
          <a:xfrm>
            <a:off x="6404400" y="4824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3120" y="1371240"/>
            <a:ext cx="884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n sodium transfers its one valence electron to chlorine both atoms become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charge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particles called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ion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etals (like sodium)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 lose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lectrons and become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positively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harged particles called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cation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n-metals (like chlorine)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gai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electrons and become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negatively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harged particles called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anion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strong attractive force between ions of opposite charge creates an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ionic bond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compound that is composed of ions is called an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ionic</a:t>
            </a:r>
            <a:r>
              <a:rPr b="0" lang="en-US" sz="20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compound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0" y="1339920"/>
            <a:ext cx="419112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very + sodium atom attracts every – chlorine atom and vice vers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ions organize themselves into a definite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cub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shaped arrangement called a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crystal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crystal is a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regular, repeating arrangement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f atoms, ions, or molecul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"/>
          <p:cNvPicPr/>
          <p:nvPr/>
        </p:nvPicPr>
        <p:blipFill>
          <a:blip r:embed="rId2"/>
          <a:srcRect l="3388" t="9306" r="4396" b="0"/>
          <a:stretch/>
        </p:blipFill>
        <p:spPr>
          <a:xfrm>
            <a:off x="3505320" y="5562720"/>
            <a:ext cx="2546280" cy="1131840"/>
          </a:xfrm>
          <a:prstGeom prst="rect">
            <a:avLst/>
          </a:prstGeom>
          <a:ln w="0">
            <a:noFill/>
          </a:ln>
        </p:spPr>
      </p:pic>
      <p:sp>
        <p:nvSpPr>
          <p:cNvPr id="434" name="TextBox 2"/>
          <p:cNvSpPr/>
          <p:nvPr/>
        </p:nvSpPr>
        <p:spPr>
          <a:xfrm>
            <a:off x="5257800" y="1339920"/>
            <a:ext cx="3713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formula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of a compound tells what elements make up the compound and how many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atom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of each element are present in one unit of the comp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odium chloride = 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odium atom and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 1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hlorine atom make up one unit of </a:t>
            </a: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sod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n atoms collide with enough energy to react, but neither attracts electrons strongly enough to take electrons from the other atom, the atoms combine by sharing valence electron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lectrons can only be shared to form molecules when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2 nonmetals collide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TE: Compounds cannot be formed from two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metal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!!!!!!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The attraction of 2 atoms for a shared pair of electrons is called a </a:t>
            </a: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covalent bond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 compound whose atoms are held together by covalent bonds is a </a:t>
            </a: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covalent compound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(also called </a:t>
            </a: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molecular compounds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molecule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is an uncharged group of 2 or more </a:t>
            </a: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non-metal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atoms held together by covalent bond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Lucida Sans Unicode"/>
              </a:rPr>
              <a:t>Single, double and triple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covalent bonds are possible when 1, 2 or 3 pairs of electrons are shared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371520" y="274680"/>
            <a:ext cx="84009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hemical name tells you what elements make up the compound: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sodium and chlorine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re is it foun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It is found in large, solid, underground deposits and dissolved in the ocea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is it use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To enhance food flavor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To melt ice on roadway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4" descr=""/>
          <p:cNvPicPr/>
          <p:nvPr/>
        </p:nvPicPr>
        <p:blipFill>
          <a:blip r:embed="rId1"/>
          <a:stretch/>
        </p:blipFill>
        <p:spPr>
          <a:xfrm>
            <a:off x="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-360" y="15235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Well-organized, tightly bound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Form crystal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Hard, rough, and brittl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High melting point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oluble in water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Conduct electricity when dissolved in water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ny compound that conducts electricity when melted or dissolved in water is an electrolyt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5105520" y="15238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Covalent Compound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ttractive forces between molecules are weak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The forces between particles that make up a substance are called interparticle forc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Liquids or gases at room temperatur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o not conduct electricity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o not dissolve in water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3712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What are some physical properties of NaCl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ite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 crystalline, solid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t room temperatur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</a:t>
            </a:r>
            <a:r>
              <a:rPr b="0" lang="en-US" sz="23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britt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elts at</a:t>
            </a:r>
            <a:r>
              <a:rPr b="0" lang="en-US" sz="23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800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  <a:ea typeface="Arial"/>
              </a:rPr>
              <a:t>°C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  <a:ea typeface="Arial"/>
              </a:rPr>
              <a:t>dissolves easily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Arial"/>
              </a:rPr>
              <a:t>in wat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Arial"/>
              </a:rPr>
              <a:t>Only conducts electricity in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  <a:ea typeface="Arial"/>
              </a:rPr>
              <a:t>aqueous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Arial"/>
              </a:rPr>
              <a:t>form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Arial"/>
              </a:rPr>
              <a:t>(dissolved in water) or when melte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SzPct val="125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What are some chemical properties of NaCl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t does not react readily with other substances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70c0"/>
                </a:solidFill>
                <a:latin typeface="Lucida Sans Unicode"/>
              </a:rPr>
              <a:t>    </a:t>
            </a:r>
            <a:r>
              <a:rPr b="0" lang="en-US" sz="2100" spc="-1" strike="noStrike">
                <a:solidFill>
                  <a:srgbClr val="0070c0"/>
                </a:solidFill>
                <a:latin typeface="Lucida Sans Unicode"/>
              </a:rPr>
              <a:t>(it is stable or unreactiv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420840" y="128520"/>
            <a:ext cx="84312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4" descr=""/>
          <p:cNvPicPr/>
          <p:nvPr/>
        </p:nvPicPr>
        <p:blipFill>
          <a:blip r:embed="rId1"/>
          <a:stretch/>
        </p:blipFill>
        <p:spPr>
          <a:xfrm>
            <a:off x="281160" y="212760"/>
            <a:ext cx="8339040" cy="15127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17280" y="152388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Properties of Sodiu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hiny, silvery-white, soft, metallic soli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elts at 98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Stored in oil because it reacts with oxygen and water vapor in ai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One of the most reactive of the common ele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Always found combined with other ele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08040" y="1523880"/>
            <a:ext cx="4953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Properties of Chlori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n-metallic pale green, poisonous ga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Kills living cell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lightly soluble in wat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sed as a disinfecta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ndenses into a liquid at -34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One of the most reactive ele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Has industrial impor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Rectangle 1"/>
          <p:cNvSpPr/>
          <p:nvPr/>
        </p:nvSpPr>
        <p:spPr>
          <a:xfrm>
            <a:off x="4114800" y="62118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Reaction of Sodium and Chlo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6840" y="14810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hemical name tells you what elements make up the compound: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Carbon and two oxygen ato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re is it foun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In the atmosphe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In your bloodstream as a waste product of cellular respiratio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is it use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It is used by plants to make glucose (photosynthesi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lifeadrift.info/media/2316/photosynthesis_equation.jpg"/>
          <p:cNvPicPr/>
          <p:nvPr/>
        </p:nvPicPr>
        <p:blipFill>
          <a:blip r:embed="rId2"/>
          <a:stretch/>
        </p:blipFill>
        <p:spPr>
          <a:xfrm>
            <a:off x="4313160" y="5359320"/>
            <a:ext cx="406872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-76680" y="144792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What are the physical properties of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a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colorless, odorles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and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tasteless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low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-80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°C,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gas changes directly to a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 white solid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without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first becoming a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liquid (dry ice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is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soluble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n water, but a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weak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conductor of electricit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What are the chemical properties of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relatively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stabl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used in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fire extinguishers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cause it does not support burning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involved in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photosynthesi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32644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0" y="12952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Properties of Oxyg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nmetallic, colorless, odorless, and tasteless g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xygen supports burn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comes a liquid when cooled to -183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Slightly soluble in wat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More reactive than carbon and combines with many other ele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1280" indent="-191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Most abundant element in the Earth’s crus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6000" y="1295280"/>
            <a:ext cx="447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Lucida Sans Unicode"/>
              </a:rPr>
              <a:t>Properties of Carb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nmetallic and unreactive at room temperatu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acts with other elements at high temperatur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arbon burns easily and is a good source of hea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orm a huge variety of compounds (organic chemistry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4" descr=""/>
          <p:cNvPicPr/>
          <p:nvPr/>
        </p:nvPicPr>
        <p:blipFill>
          <a:blip r:embed="rId1"/>
          <a:stretch/>
        </p:blipFill>
        <p:spPr>
          <a:xfrm>
            <a:off x="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52280" y="148104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hemical name tells you what elements make up the compound: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two hydrogen atoms and one oxygen at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re is it foun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 approximately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70%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f Earth’s surfac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 about </a:t>
            </a: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70%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f the mass of the average human body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is it use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In chemistry water dissolves chemicals so that they can interact with other chemicals to create chemical reactio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at are the physical properties of wate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the only 1 of the 3 compounds that occurs in Earth’s environment in all</a:t>
            </a:r>
            <a:r>
              <a:rPr b="0" lang="en-U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3 states of matt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turns into a gas at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</a:rPr>
              <a:t>100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°C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and turns into a solid at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0°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Pure water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does not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conduct electricity as a solid, liquid, or a g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is called the </a:t>
            </a:r>
            <a:r>
              <a:rPr b="0" lang="en-US" sz="2400" spc="-1" strike="noStrike">
                <a:solidFill>
                  <a:srgbClr val="0070c0"/>
                </a:solidFill>
                <a:latin typeface="Lucida Sans Unicode"/>
                <a:ea typeface="Arial"/>
              </a:rPr>
              <a:t>universal solvent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because it is good at dissolving other substanc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is important in transport of material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2:56:50Z</dcterms:created>
  <dc:creator>udsd</dc:creator>
  <dc:description/>
  <dc:language>en-US</dc:language>
  <cp:lastModifiedBy>Dawn</cp:lastModifiedBy>
  <dcterms:modified xsi:type="dcterms:W3CDTF">2013-01-09T01:31:42Z</dcterms:modified>
  <cp:revision>57</cp:revision>
  <dc:subject/>
  <dc:title>Chapter 4</dc:title>
</cp:coreProperties>
</file>